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B0F1-3689-4FEA-99EF-02D6302D3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F350-7B79-4EA1-96A8-9117D7C1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7C13-140B-4B0C-92CD-8026489E1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7F77-A6B0-49E2-A85C-757D96047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5376-7494-446B-8A46-8CC7067B4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B7FA-9D38-4F30-B7D2-500668095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34BD-CC9C-4FF3-B181-C5D2857AB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1986-8CA4-44AE-AF65-5B026F7D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89A7-A2F8-4DB9-8490-655A66D00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2142-B0A6-442F-AAD8-34678082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B13-908E-46F2-BDCE-5394C0270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6778-2F18-4D34-9CBF-C47E0B029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D324-60A3-47EE-9010-352C44D41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2C6C-3949-4DC8-A131-358CBB508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13D0-E8D9-4BBA-8C07-A2933EAF9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4E83-1C08-40F7-B700-FB8C4B238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09D2-48BD-47FB-A04E-B4AAD9D49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E16E-01BA-4B04-8D6A-B85C7707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712B-0D5E-4A7B-8640-A155B566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7024-71DF-41BA-AC32-2A9B13B21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404E-8ACA-45E2-A50C-4E05630BD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4174-EFB9-405B-8ED9-D9D429DCC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885C-CC5D-44BE-8CE7-8B90D303C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0F2B-B151-4E6E-B6B3-471E9664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E404-ACAD-4831-B603-EBA0F324B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0D86-2659-473B-80BD-B39316561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15F2-C851-4D3A-B45F-36945C4E7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F99A-16FA-4544-9D19-D99190FC3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28C6-D4FC-484B-A4DA-7B10BD648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CAD3-6493-4255-AB72-B5F7316F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94F7-B1FB-44EF-95CE-CE047E6EE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4186-1F7B-4E99-B674-6B9605D65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BC4B-DF75-4966-9D84-502F89E3D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36D7-3FE4-46FB-A9A3-39AB0D6B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1226-A47C-407A-9C08-CA4E6E9B0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BA6B-31F5-44F6-AFE8-097D5169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04C7-138F-4A95-9857-E394D5852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ED3E-722E-4DA6-B70A-FAB562B33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CC68-5A86-440D-98A6-7662C48C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870B-3F4E-4E75-BA37-C9C638F2B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F01A-9D54-4694-B4FE-2741E07A6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FC6F-F08D-4910-B942-1E93C16F3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ED03-08F2-4596-BC07-6A900C2F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3E74-B37C-4788-B347-8AAD3D37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E0BE-31CA-45C3-BC24-AF80AA546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39C1-32FF-4323-A053-C92274783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9F66-4078-47FA-B8A9-7C08C96F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EDB5-695E-4A37-A01C-2888F4697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45E7-69B4-4FA2-A920-867A2CECA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37E3-67F3-4D29-97AD-394AA4D7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A48A-3226-43D0-A7CC-03A114D98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A3EE-ADB3-4833-BE84-D70508D58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1CA-B40C-4D7B-8AE9-7407792C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021-17D7-4E1B-8C2D-C9B32746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8BFBE-8520-44DC-B83F-FA9F5696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647E0-CEBD-4716-9FB2-23BF3164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CCDDF-14F5-45F7-B3F4-632ABA17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628E5-5C3C-445E-AAF2-2A2B6970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55396-F8A6-4677-8A8D-F3B60FA6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8E265-74D2-42C8-8E9A-23FF52C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3B629-FFA2-4B47-B2F8-B42CC3CD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77003-743F-4212-93DD-21626C34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64072-5854-4102-8DD4-AFCED2AA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F79AB-6695-427D-B8B9-3DCE971F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428-FF0A-470F-A0B8-B0BDD84D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9F7A8-1B03-4373-82FE-EBD4433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0718B-3B56-4F69-9B2B-5FCD049B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DE774-0AA7-43CB-B2DA-53AA97CE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9185D-6EB6-453F-8041-E9EEB152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088C5-BE11-495B-868E-BBA3C8D0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9FAAB-5468-481E-A4F6-B735F3C6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DA3F-5792-4DD0-A7B4-AE5A60C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63E57-03C8-4665-8049-4092984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FE75E-DD66-4748-9481-ABFB0ACB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84735-ADBA-4BD8-9516-DC85FD82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1B7-1073-4AB4-BF95-C45C954C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6B240-E054-47C1-AE13-8BFEC7F5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386FC-7051-4B50-BDF4-484F8114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417C1-C066-4EE5-9901-D03F2594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13647-2B61-4BBE-90B7-FE91992F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79A09-4058-477B-A7D4-B3673100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1E5B9-B82A-407B-8A63-2FF6551F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5B8A4-18A9-454D-BF07-17E084A8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4C301-14DA-4203-81DE-4D9CC1B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01AE6-A2B3-43FF-8E17-44DB059A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0BC7C-2BC7-45C3-8415-20944AEF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602E-C2CE-458B-B28C-6A233A05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ABCA2-8E6F-4129-8E2C-10CCFB22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0E542-58C2-40CA-B424-A5A8CFC0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B1778-9C73-4109-9F49-4B3D92AA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567A8-B9E3-43E8-9DE3-1AD0D434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ED3FA-9720-4F4A-B70F-EFC4A963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FED99-A7DB-4B41-B086-EFF97435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92A91-E8E1-4425-A3F6-517CDC75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0681A-96C5-4DEC-8E44-5C2CC2EF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F697E-79AE-4E94-8E3B-1A2DF124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7BA02-BEE0-49C7-A65A-C28476CC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7FD0-888C-44F9-B75E-F40B9598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8762E-8846-4A94-BD8F-3728155B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7AC8C-233B-4206-9B1F-08CD9749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47522-6675-4C76-849D-CB74EA86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F556A-9962-4CF9-9407-548C3FAD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F2374-0D87-46D3-B5AC-D9D63DD3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0026-28F0-4152-8662-2CD66622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2ABC-84B9-45E1-99B0-3F3BA290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55F1-101C-4467-ABD6-B81D9BC5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FA82-2279-4018-95D3-9916DFB4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7485-0083-418F-9314-24F5BBA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2D7-6723-4230-9BD4-C1C715CF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0F9C-CF04-4F8C-AF0D-F0B6DCE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4F1F-B42A-47F0-B028-411ED94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4F56-9062-4BF6-B95D-143FAB5B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F028-66F8-4DFE-A7A5-37E98880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035C-0F6F-487A-AF7D-AB3AF3A1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64E47-7D8F-4FA6-9225-7E366DC4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A492-AF1B-427F-B073-622D5EB7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162F-0586-485C-B7DE-9DF78BA5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68DD-8399-44DD-A7E2-DDDF1B0F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FD79-05A6-47A8-8713-825184AC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2A1-415B-418E-AD1C-C4E867B9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BC3E-F0BB-4FB9-AA7A-AFA6DBEE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AFE1-744D-473A-AC95-0A51A8BF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ED9F-795F-407A-A25E-84944CE3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9257-D6F5-4A7A-BAC4-EF77AB1D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DBDF-31D3-4D72-B243-0939FF27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55B0-EE30-4E60-A0D1-8226A6FD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F9D1-76F8-45C9-A905-14C6F08F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A00D-053C-4629-A577-2107E816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20152-87C6-4126-86D9-E71A140C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F469C-4E15-4909-85EE-4419F1B8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BC1-6358-43D0-BF30-AB556BA3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0BEC-E847-42F4-AC1A-2B6EF83B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24BB9-CA36-43DD-8DB7-548B13C0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CA79-FB57-46E8-8973-0830D698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7DE0B-BF1A-43D8-8FA7-56D38C85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D9F2-82EB-45F4-996E-362FDF21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508D9-C757-458E-80D1-E6D8B6F4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154F-515C-496E-A36A-8CA45A79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2DA0-842B-4D4B-A996-D7DEFBF4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7FC9-5D8D-4F76-9008-26B9B5A6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9CD5-3EE9-47C7-9098-F52B4CA5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77D-EB43-4CAD-B744-1AFCB70B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E2E42-1B2B-47DA-BB8B-FE2A5931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6DD22-012F-45CA-B1C9-2E60E441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96426-F374-4580-A924-A9409EC2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DDD0-FA35-4EE0-A3D9-F8B93938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E0E7D-D94D-4781-B51B-7DF8AA8B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5322D-39D9-4116-87AA-4768024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2F55-5D09-43D7-9F55-8CA23C78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EED72-6F9A-4E5A-9BE6-944CD2E4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9D876-DB2D-4A6E-B36D-ADC8F620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F8526-ACBD-4305-A245-FDD6E133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61F-92AA-417C-9425-EFCA320F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B0C30-96F1-4A93-8300-2F49355C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E2FB-31DF-4371-B150-BD95DAB9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17DA8-DC76-4677-B61D-FDCD8203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0C727-5F63-4D28-9DF9-5AB7F42B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36FDE-889A-4DC7-A4EC-7588A5C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83606-CB93-4E1B-8C46-5675037B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AE2BC-AB08-47AA-BC86-57CC305C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9B27B-6A04-46FB-A35F-D50EA684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AD191-4485-4820-9354-94FDF06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1FA7E-8D05-454B-A24E-044B087C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5FA-949B-4C62-A239-219330E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9138C-DCE4-4B33-A975-513765CF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FBAAA-93A2-4370-B3D9-0FAEE724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C297A-9AF7-4537-832D-2AFCC62F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76C91-D0B6-4764-8568-20E3ED8E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8A231-AD28-4D03-8909-1D202935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C3EF7-C4C7-42F6-9F3F-8E0C20D0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75F6E-8EC0-4478-9D88-586F9C99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BB4CD-4B10-44BC-B7D0-039CFC75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38AB-3420-492F-860C-56347F07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C1FD6-D73A-43C5-8272-7C11762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631-3619-4796-BC7A-AA48DF67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8E7DF-B255-42F2-A3F2-E555047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72C1E-95B4-4D4B-B1E4-7515C513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3236-4260-4890-BF38-A3F60DCF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D00D9-69C8-45C3-8DF2-1D1F37F7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6C984-0EC1-4968-B03B-4420B4E8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8AE8B-FB8A-44CA-9C50-74DEB5EE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CD8C3-4F3C-4906-ADD8-B52DA3C9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EC5EE-6FC6-495B-8A0E-120C2FCC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19F6E-E546-488D-AA8E-565552B0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E073D-15F6-4C13-A5CB-233722A1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1CD-B1A3-4B89-BF37-89AC2701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8D249-8F85-4015-BF64-3F5B17D1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32ECD-FC6C-4210-96EF-663C8FD0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38781-A540-4319-94EC-1F6E2350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42F0C-F756-4401-AA4F-FFCAFB74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85B56-F37C-4D90-B020-ED6E51D9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391B7-CF2E-4041-819B-7564F83B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8363A-2CB8-46A9-B8D9-7D30C89F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D44C8-B5EF-434E-A608-43862586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E262B-659E-4BB6-AD05-B759A883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11023-63D9-4A35-BFDF-C7198C1E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BA6E-FDD3-4A7D-A867-87D6E3D55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8504-9A24-4529-A7C2-C7E1A5242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56DC-DE7A-4577-BC94-2ACDD59C9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0B6D-71FD-4941-ADA3-55AB2971B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16B5-A232-43BD-8617-B0E28612B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0B69-28C8-4DFE-8181-CE45FD2F3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28D0-D900-4C42-938C-856B9E84F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B66C-17EA-44F5-83C6-2AF6D303D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A1E0-F330-4190-9CA5-4494FFB38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9300-5DDF-4D17-8367-069166FFC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249F-7D67-4F72-8DA6-D3309AC20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3EC-53C8-4937-BAF9-B0D7934D2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Layout" Target="../slideLayouts/slideLayout85.xml"/><Relationship Id="rId3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21932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2394" h="21600">
                <a:moveTo>
                  <a:pt x="0" y="0"/>
                </a:moveTo>
                <a:lnTo>
                  <a:pt x="32394" y="0"/>
                </a:lnTo>
                <a:lnTo>
                  <a:pt x="32394" y="21600"/>
                </a:lnTo>
                <a:lnTo>
                  <a:pt x="0" y="21600"/>
                </a:lnTo>
                <a:close/>
              </a:path>
              <a:path fill="lightenLess" w="32394" h="21600">
                <a:moveTo>
                  <a:pt x="0" y="0"/>
                </a:moveTo>
                <a:lnTo>
                  <a:pt x="32394" y="0"/>
                </a:lnTo>
                <a:lnTo>
                  <a:pt x="30994" y="1400"/>
                </a:lnTo>
                <a:lnTo>
                  <a:pt x="1400" y="1400"/>
                </a:lnTo>
                <a:close/>
              </a:path>
              <a:path fill="darken" w="32394" h="21600">
                <a:moveTo>
                  <a:pt x="32394" y="0"/>
                </a:moveTo>
                <a:lnTo>
                  <a:pt x="32394" y="21600"/>
                </a:lnTo>
                <a:lnTo>
                  <a:pt x="30994" y="20200"/>
                </a:lnTo>
                <a:lnTo>
                  <a:pt x="30994" y="1400"/>
                </a:lnTo>
                <a:close/>
              </a:path>
              <a:path fill="darkenLess" w="32394" h="21600">
                <a:moveTo>
                  <a:pt x="32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4" y="20200"/>
                </a:lnTo>
                <a:close/>
              </a:path>
              <a:path fill="lighten" w="32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d chicken with cigarettes with Pony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Curly Shep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aser who started the ru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D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ived at the rumble 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D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cation of Curly Shepard (why he’s not participating in the rum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he is in j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estion Ponyboy was asking all the Grea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why they f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d because of a broken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group that accompanied Tim Shepard to the ru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the Brumly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lly’s actions when he called the Curtis 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robbed a grocery store &amp; was being chased by the c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Ponyboy ruined the man’s seats who gave him a 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was bleeding all over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Johnny left for P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one with the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Ponyboy was worried after he awoke from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if he asked for Darry when he was s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time Ponyboy was out with a con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4 days (Saturday to Tues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Soc who visited Pony at his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Randy Add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Randy and Ponyboy argu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ho killed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ny is dead/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ture Ponyboy found while looking at Soda’s year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Bob Sheldon’s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Darry gives Ponyboy a hard tim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moking in bed and picking up his m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stand the fighting between brothers any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status of most of Ponyboy’s school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midd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 Ponyboy’s grades w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down/they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of Soda running out on Darry &amp; P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o much fighting (maybe some of Sandy bothering him too – the baby wasn’t h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ing of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same way it started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yboy was writing his theme paper about what happened (starting with going to the movies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ote that Two-Bit tells Pony after the pop bottle inc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Don’t get tough. You’re not like the rest of us and don’t try to b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Soda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questioned first at the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Ra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to cry at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D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boys who started the ru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Darry &amp; P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20:10:38Z</dcterms:created>
  <dc:creator>Algona Community High School</dc:creator>
  <dc:description/>
  <cp:keywords/>
  <dc:language>en-US</dc:language>
  <cp:lastModifiedBy>ACSD</cp:lastModifiedBy>
  <dcterms:modified xsi:type="dcterms:W3CDTF">2011-02-24T16:25:16Z</dcterms:modified>
  <cp:revision>58</cp:revision>
  <dc:subject/>
  <dc:title>No Slide Title</dc:title>
</cp:coreProperties>
</file>